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7FB-7769-437C-94DF-B8B980A2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C98-8DAC-4C0C-ACF9-692D703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8A5-2A73-492A-87B0-DBD46B3D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C71-1FAD-4AFE-8D7D-546A387B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548-4181-44B2-A252-3991ADB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405-F516-4403-86D1-F8136ECD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020-45E9-46BB-A57B-0796598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E15-EE17-4EF9-9D6A-8786D0A9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05F-199C-42A0-BA2D-25451CEE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8AB-A2AE-4374-A2AB-B3BAE09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83B-7B2F-4046-AA99-D404C695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6D8-2D00-4851-AB52-217D2F6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26C-94A9-489E-8E5C-766770ABB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graphy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: Jennifer Cicc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of Th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ectangle 6" descr=""/>
          <p:cNvPicPr/>
          <p:nvPr/>
        </p:nvPicPr>
        <p:blipFill>
          <a:blip r:embed="rId1"/>
          <a:stretch/>
        </p:blipFill>
        <p:spPr>
          <a:xfrm>
            <a:off x="2006640" y="1981080"/>
            <a:ext cx="5283000" cy="3353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y.abou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918240" cy="266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5410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i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ectangle 5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0968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ianweb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 Camera 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1990440" cy="1905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7692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yfilm.blogsp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7339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foxx.blogsp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1:20:05Z</dcterms:created>
  <dc:creator>Michael Cicchini</dc:creator>
  <dc:description/>
  <dc:language>en-US</dc:language>
  <cp:lastModifiedBy>Michael Cicchini</cp:lastModifiedBy>
  <dcterms:modified xsi:type="dcterms:W3CDTF">2010-02-21T01:49:22Z</dcterms:modified>
  <cp:revision>1</cp:revision>
  <dc:subject/>
  <dc:title>Photography Basics</dc:title>
</cp:coreProperties>
</file>